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F24-7985-4239-B949-FAE2FD60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F79-69DE-4117-AADA-C63E70F5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9F9-D19C-4B8A-A7CF-2985BBB6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C1D-51B4-4703-86FF-804B3901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EE2-96EF-4ECB-AC12-226A97B7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F7D-B187-45F3-8AFB-C49CDFE5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074-D02D-4251-ABBA-2CBCFEDA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655-6F19-4002-AD66-A946BFCC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171-8DCF-4D72-B0B7-33C04E3E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77B-D44D-4E58-82A3-ED682FC1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387-528C-4BAA-A423-791DC09E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126-3468-48AE-B202-3E1D2BD0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474D-6D7B-443F-8DC0-F09AAF2EF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Fair Projec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y Salaz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992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e fastball will be fastest and more consist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3915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balls, 5 pitchers, catcher and a batt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ball throw 5 strikes and the speed all together is 526mph, the curveball had 6 strikes and the speed was 472mph and the screwball had 4 strikes and the speed was 433m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ball was the fastest but the curveball throw 6 strik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sit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ling college base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57657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26:40Z</dcterms:created>
  <dc:creator>USD376</dc:creator>
  <dc:description/>
  <dc:language>en-US</dc:language>
  <cp:lastModifiedBy>USD376</cp:lastModifiedBy>
  <dcterms:modified xsi:type="dcterms:W3CDTF">2010-05-10T14:33:46Z</dcterms:modified>
  <cp:revision>7</cp:revision>
  <dc:subject/>
  <dc:title>Science fair project  </dc:title>
</cp:coreProperties>
</file>